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635-8300-4F87-9FFB-122BDEBE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DDE-8433-403C-B966-7881E1D3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C15-A251-4F91-A277-C603B1E4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AD4-4033-4C43-82F2-C9384496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C804-662D-4938-A618-908727FC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DD8-DC7D-47A8-8BC4-BE8C9021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C79F-2723-4E2B-8267-17AD0AC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BF2D-650F-49F7-B177-2A32E862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078-F70A-41F0-A26F-7CEDBE5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DEE-E65E-4A54-A06E-27C21A14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96B4-024B-4A51-8616-DFE8B1E8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693-014B-4820-B4CE-4287DE2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6C0-9939-4A09-B1B3-2BE90066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DE83-3CDD-4B27-826A-5AC2D82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56C2-069F-4DBC-9152-725FF11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1FBE-AF98-4617-B0F2-6E0629E1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CD6D-CE22-4FFC-9AAE-9A066BAE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0AB7E-0531-4E60-BC63-97A14FC3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45FC9-7C89-47F3-A623-548B9DBC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9F70F-6F49-46CA-A61A-C4D8E0B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01EF5-730D-481A-BDF1-81EEA6DD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0EE91-D8C9-4919-A929-1708FD5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CF8-E8F0-4B26-BF94-85EFAEE3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69013-938D-4EB9-88A2-D971DD7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869ED-784F-472B-8D61-0AED0AD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531DD-61DD-4698-9EED-2FD5C1E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E0CA5-981C-4F1B-AED3-93FA149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8F7EF-5E35-4C1A-90A0-C4A8118C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B1976-EA0D-42C4-936E-24636F92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E393D-EBBF-4FA2-9D2B-41B37BE1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82D5-E377-4681-B87A-EDC8D7EE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1C26B-7F0F-4EDC-A30F-6509D98B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5DF2A-D886-489A-8FD7-838F3BB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D21-9871-435F-AE68-B91D1B3B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6E9C5-7B94-427B-8A3C-4A49D1F0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E70D8-0C1D-4B37-839E-5646E181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46E99-ACD6-4951-A1D4-C959B7B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879DB-183C-4DE4-A76F-6C47548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80499-0E8E-4986-A95E-EDB4E475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47F7E-C626-43A8-8B88-5B580D0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FB6D8-0BB4-4057-86F7-07B7CA1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1A64F-2DC0-4F60-8E54-35FF360B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8B1B9-AFFA-48A0-8272-D958C4C9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5ABB3-B256-4151-AD63-40EED043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30C-0C83-49F6-9044-3DF195D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338FD-DF68-430D-AD00-77841CF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CA931-9134-4CFD-B621-905DE56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151D5-07FF-49DC-875B-D176384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53438-52DD-4A0F-BDC2-CB97AF51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9D1F4-F5C5-41BD-BEA3-DAC7775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26338-B5AB-4274-AFAE-5422616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E2834-D4EB-4706-8DE3-27AB779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ED180-1C5D-41F7-874E-4EDD576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E6C23-F1D3-41B2-A7DF-21429DDD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6F214-EFDB-4FD7-97D0-ACE4A28C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C1E-D6C2-44B3-BF0A-AB3BCCAA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79D37-C576-42A1-AAD8-6D6BF6E0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ACEF-A0D2-41A5-B373-A12AA410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74DE-CC48-4393-A744-7B4A3FB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1E0B-4C39-44A1-9C98-1721DD62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4C38F-0E27-44BB-9089-E503FD49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AC82-0394-4403-9B8A-065ADDA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8D39-A1EF-4148-88D2-11DBA896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7DD8-9EA2-4524-B3A3-3F33A53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2827-0511-48FA-911D-16BC574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E946-B981-43EC-8198-DBD96BA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840-5C54-479E-A55E-951614E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6760-D523-492F-976F-E7337FB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5B2B-3CE7-4D49-83CF-5EC15490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1C6D-89F3-45BD-B291-C2AD3EE0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6F9D8-8C72-42F2-9407-3EC0551D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AA3C3-911F-4FA7-A595-21256021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E46C9-FE44-4D22-B818-2796D371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1D542-4D2A-4B7A-9C17-1CF97F2C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601D9-5BC0-4998-A24F-CE5D3D04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E10A8-1776-4F94-AF4B-D7FD339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B3280-A4CE-4D66-B81F-A68F653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D86-B72F-410B-A5F3-44308570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CAF61-BCA4-425C-84B5-3AAB60A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07FAA-CF03-4379-BFDB-5738586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B90A8-E843-4A9F-8715-CF225AE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4F51D-2C44-4C1A-9EA7-F7DF78B4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C327B-A76E-49D7-BE17-C794692D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F7AA-EF96-49E5-B72C-9E707DE3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7C04-7E9A-4D28-931C-5101C98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A15E8-A7F3-472B-983A-8EC9F41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8C71A-EED3-44F7-AD99-4D5A83A5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93FA1-45A5-463C-91E4-4B39130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AED-2865-459F-BD7F-2471B6C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0899C-C658-4881-8EC6-C0B5DF0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9A08-F421-4119-A574-6374CF7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A79E-0526-4D63-B6E7-FC09E6E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7956-B68E-494E-AACC-82480AD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B54B-6C31-473B-A3FC-184312F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7E52E-7CB5-49A7-B7C5-FC9C3168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AE186-0A97-4A30-B255-330B1CF8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189-960C-4622-AF1B-219C6D40611E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26E-A264-4DD3-8AB8-F2C73CFD8D43}" type="slidenum">
              <a:rPr b="1" lang="en-A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D1A-03B7-4018-B379-0D2A3F46B665}" type="slidenum"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ADE-BC8A-49B1-9175-AF6FF2258B63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394-7110-4A76-8359-F1BA415468E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1BF3-6C3D-4DB7-890C-E0806F13253B}" type="slidenum">
              <a:rPr b="1" lang="en-A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1451-7304-442B-8A71-2589D4435B38}" type="slidenum"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1930-A2CD-4B7F-9E57-891059B1134B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vet@pearson.com.au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Where do I find i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How is it helpful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w Cen MT"/>
              </a:rPr>
              <a:t>Equipment Safety in Schools websit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Contact Pearson Edu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vet@pearson.com.au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1800 838 1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(02) 9454 22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Toolboxes FREE e-learning resourc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OOLBOX RESPOSIT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w Cen MT"/>
              </a:rPr>
              <a:t>http://toolboxes.flexiblelearning.net.au/repository/index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GENERAL CONSTRU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w Cen MT"/>
              </a:rPr>
              <a:t>http://toolboxes.flexiblelearning.net.au/demosites/series4/401/home.ht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GENERAL CONSTRUCTION</a:t>
            </a:r>
            <a:br>
              <a:rPr sz="4000"/>
            </a:br>
            <a:r>
              <a:rPr b="0" lang="en-AU" sz="2000" spc="-1" strike="noStrike">
                <a:solidFill>
                  <a:srgbClr val="775f55"/>
                </a:solidFill>
                <a:latin typeface="Tw Cen MT"/>
              </a:rPr>
              <a:t>http://toolboxes.flexiblelearning.net.au/series4/401.htm</a:t>
            </a:r>
            <a:br>
              <a:rPr sz="2000"/>
            </a:b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26018" t="6954" r="26904" b="44214"/>
          <a:stretch/>
        </p:blipFill>
        <p:spPr>
          <a:xfrm>
            <a:off x="1547640" y="2135160"/>
            <a:ext cx="568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Learning Objects</a:t>
            </a:r>
            <a:br>
              <a:rPr sz="4000"/>
            </a:br>
            <a:r>
              <a:rPr b="0" lang="en-AU" sz="1800" spc="-1" strike="noStrike">
                <a:solidFill>
                  <a:srgbClr val="775f55"/>
                </a:solidFill>
                <a:latin typeface="Tw Cen MT"/>
              </a:rPr>
              <a:t>http://toolboxes.flexiblelearning.net.au/demosites/series4/401/rlo/default.htm</a:t>
            </a:r>
            <a:br>
              <a:rPr sz="1800"/>
            </a:b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rcRect l="6477" t="11295" r="26538" b="4658"/>
          <a:stretch/>
        </p:blipFill>
        <p:spPr>
          <a:xfrm>
            <a:off x="468360" y="1494000"/>
            <a:ext cx="8064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BUILDING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HANDY GLOVE BOX SIZED REFERENCE BOOK SUMMARISING </a:t>
            </a: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1" lang="en-AU" sz="2000" spc="-1" strike="noStrike">
                <a:solidFill>
                  <a:srgbClr val="000000"/>
                </a:solidFill>
                <a:latin typeface="Tw Cen MT"/>
              </a:rPr>
              <a:t>ACCEPTABLE STANDARDS OF DOMESTIC CONSTRUCTION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Single copies retail at $25.00 plus postage/Multiple copies $15 plus post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rcRect l="0" t="3193" r="0" b="29765"/>
          <a:stretch/>
        </p:blipFill>
        <p:spPr>
          <a:xfrm>
            <a:off x="395280" y="2997360"/>
            <a:ext cx="7993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AFE Resour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AFE NSW Resource distribution centre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51 Wentworth Roa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Strathfield NSW 2135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hone: 02 9793 3347 Fax: 02 9793 3242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Email: taferesources@tafensw.edu.au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ABN: 36 459 049 94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Customer Service TAFE Resource Distribu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O Box 22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Yagoona NSW 2199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Phone: 02 9793 3347 Fax: 02 9793 324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https://www.det.nsw.edu.au/doingbusiness/product_service/schcurresource/resdistricenter/index.ht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9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AU" sz="2900" spc="-1" strike="noStrike">
                <a:solidFill>
                  <a:srgbClr val="775f55"/>
                </a:solidFill>
                <a:latin typeface="Tw Cen MT"/>
              </a:rPr>
              <a:t>TAFE Resources </a:t>
            </a:r>
            <a:r>
              <a:rPr b="0" lang="en-AU" sz="2800" spc="-1" strike="noStrike">
                <a:solidFill>
                  <a:srgbClr val="775f55"/>
                </a:solidFill>
                <a:latin typeface="Tw Cen MT"/>
              </a:rPr>
              <a:t>CERTIFICATE  III GENERAL CONSTRUCTION (CARPENTRY) HOUSING TRADE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1/1 INTRODUCTION TO TRADE 978‐0‐7348‐0997‐1 9.25 11.5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2/1 BUILDING MATERIALS AND HAND TOOLS 978‐0‐7348‐0998‐8 8.48 10.6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ARP03/1 POWER TOOLS AND EQUIPMENT 978‐0‐7348‐0999‐5 5.21 6.5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4/1 SET OUT AND LEVELLING 978‐0‐7348‐1000‐7 6.55 8.1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5/1 STRIP FOOTINGS 978‐0‐7348‐1001‐4 5.01 6.2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6/3 GROUND FLOOR CONSTRUCTION 978‐0‐7348‐1554‐5 5.40 6.7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7/1 SLAB‐ON‐GROUND CONSTRUCTION 978‐0‐7348‐1003‐8 4.63 5.78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08/1 LIMITED HEIGHT SCAFFOLDING 978‐0‐7348‐1004‐5 4.82 6.02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0/1 WALL FRAMING 978‐0‐7348‐1006‐9 5.21 6.5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1/1 BASIC ROOF AND CEILING FRAMING 978‐0‐7348‐1007‐6 8.29 10.3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2/1 HIP AND VALLEY ROOFING 978‐0‐7348‐1008‐3 11.95 14.9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3/1 DOOR AND WINDOW FIXING 978‐0‐7348‐1009‐0 11.57 14.4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4/1 EXTERIOR CLADDING / FINISHING 978‐0‐7348‐1010‐6 5.40 6.7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5/1 TIMBER ROOF TRUSSES 978‐0‐7348‐1011‐3 5.01 6.27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6/1 WET AREA CONSTRUCTION 978‐0‐7348‐1012‐0 3.28 4.1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7/1 FIXING OUT ‐ CARPENTRY 978‐0‐7348‐1013‐7 9.64 12.0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ARP18/1 STAIR BUILDING 978‐0‐7348‐1014‐4 4.24 5.3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GCKBCG03/2 GENERAL CONSTRUCTION KNOWLEDGE 978‐0‐7348‐2523‐0 58.51 73.1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AFE Resources -Construction DV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01/1 SAFETY SIGNS &amp; TAGS 978‐0‐7348‐1803‐4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2/1 DRESSING TIMBER 978‐0‐7348‐1804‐1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3/1 POWER PLANERS AND ROUTERS 978‐0‐7348‐1805‐8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4/1 LADDERS AND TRESTLES 978‐0‐7348‐1806‐5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05/1 BASIC LEVELLING 978‐0‐7348‐1807‐2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6/1 INSTALLING DOOR JAMBS &amp; ARCHITRAVES 978‐0‐7348‐1808‐9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7/1 SETTING OUT TOOLS 978‐0‐7348‐1809‐6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8/1 MORTISE &amp; TENON JOINTS 978‐0‐7348‐1810‐2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09/1 PORTABLE POWER SAWS 978‐0‐7348‐1811‐9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0/1 SETTING OUT A BUILDING SITE 978‐0‐7348‐1812‐6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1/1 HANGING A DOOR 978‐0‐7348‐1813‐3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2/1 GRIND &amp; SHARPEN PLANE BLADES &amp; CHISELS 978‐0‐7348‐1814‐0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3/1 HOUSING AND HALVING JOINTS 978‐0‐7348‐1815‐7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14/1 PLANT &amp; EQUIPMENT 978‐0‐7348‐1816‐4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w Cen MT"/>
              </a:rPr>
              <a:t>CTD15/1 CONCRETING ON A SMALL SCALE 978‐0‐7348‐1817‐1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w Cen MT"/>
              </a:rPr>
              <a:t>CTD16/1 INSTALLING A CYLINDRICAL DOOR LOCK 978‐0‐7348‐1818‐8 30.00 37.50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VETASSESS – Assesitnow</a:t>
            </a:r>
            <a:br>
              <a:rPr sz="4000"/>
            </a:br>
            <a:r>
              <a:rPr b="0" lang="en-AU" sz="2400" spc="-1" strike="noStrike">
                <a:solidFill>
                  <a:srgbClr val="775f55"/>
                </a:solidFill>
                <a:latin typeface="Tw Cen MT"/>
              </a:rPr>
              <a:t>http://www.assessitnow.com/webpage/content/default.cfm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uilding and Construction - BCG03. </a:t>
            </a:r>
            <a:r>
              <a:rPr b="0" lang="en-AU" sz="2400" spc="-1" strike="noStrike">
                <a:solidFill>
                  <a:srgbClr val="775f55"/>
                </a:solidFill>
                <a:latin typeface="Tw Cen MT"/>
              </a:rPr>
              <a:t>Check for relevance to current delive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O2003B Carry out concreting to simple form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2B Carry out excavatio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1005B Carry out measurements and calculation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CCM2004B Drain and dewater sit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8B Erect and dismantle restricted height scaffolding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Tw Cen MT"/>
              </a:rPr>
              <a:t>BCGCM2003B Install trench support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1003B Plan and organise work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Tw Cen MT"/>
              </a:rPr>
              <a:t>BCGCM2001B Read and interpret plans and specificat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775f55"/>
                </a:solidFill>
                <a:latin typeface="Tw Cen MT"/>
              </a:rPr>
              <a:t>What is ESI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Website providing the most current information about safe use of items of plant commonly found in NSW Department of Education and Training (DET) secondary school industrial arts workshop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For students and teach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Usage controls for various users in school set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Developed by Asset Management Directo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600" spc="-1" strike="noStrike">
                <a:solidFill>
                  <a:srgbClr val="775f55"/>
                </a:solidFill>
                <a:latin typeface="Tw Cen MT"/>
              </a:rPr>
              <a:t>Where do I find ESIS?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log on using the DET por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go to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My Applic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Equipment Safety in School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from the alphabetical li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from the panel on the left of the screen, 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Equipment Advice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if using the search engine to find the items above or choose </a:t>
            </a: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Recent Updat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Where do I find ESI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Picture 346" descr=""/>
          <p:cNvPicPr/>
          <p:nvPr/>
        </p:nvPicPr>
        <p:blipFill>
          <a:blip r:embed="rId1"/>
          <a:srcRect l="0" t="2919" r="55498" b="52248"/>
          <a:stretch/>
        </p:blipFill>
        <p:spPr>
          <a:xfrm>
            <a:off x="1042920" y="1125360"/>
            <a:ext cx="7113600" cy="4822920"/>
          </a:xfrm>
          <a:prstGeom prst="rect">
            <a:avLst/>
          </a:prstGeom>
          <a:ln w="0">
            <a:noFill/>
          </a:ln>
        </p:spPr>
      </p:pic>
      <p:sp>
        <p:nvSpPr>
          <p:cNvPr id="358" name="Left Arrow 347"/>
          <p:cNvSpPr/>
          <p:nvPr/>
        </p:nvSpPr>
        <p:spPr>
          <a:xfrm>
            <a:off x="6443640" y="4869000"/>
            <a:ext cx="979560" cy="484200"/>
          </a:xfrm>
          <a:prstGeom prst="leftArrow">
            <a:avLst>
              <a:gd name="adj1" fmla="val 50000"/>
              <a:gd name="adj2" fmla="val 5010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89760" cy="5904000"/>
          </a:xfrm>
          <a:prstGeom prst="rect">
            <a:avLst/>
          </a:prstGeom>
          <a:ln w="0">
            <a:noFill/>
          </a:ln>
        </p:spPr>
      </p:pic>
      <p:sp>
        <p:nvSpPr>
          <p:cNvPr id="360" name="Down Arrow 4"/>
          <p:cNvSpPr/>
          <p:nvPr/>
        </p:nvSpPr>
        <p:spPr>
          <a:xfrm>
            <a:off x="1835280" y="3860640"/>
            <a:ext cx="485640" cy="978120"/>
          </a:xfrm>
          <a:prstGeom prst="downArrow">
            <a:avLst>
              <a:gd name="adj1" fmla="val 50000"/>
              <a:gd name="adj2" fmla="val 498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Newly risk assess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rcRect l="18097" t="10945" r="36841" b="48014"/>
          <a:stretch/>
        </p:blipFill>
        <p:spPr>
          <a:xfrm>
            <a:off x="1692360" y="1557360"/>
            <a:ext cx="5975280" cy="4140000"/>
          </a:xfrm>
          <a:prstGeom prst="rect">
            <a:avLst/>
          </a:prstGeom>
          <a:ln w="0">
            <a:noFill/>
          </a:ln>
        </p:spPr>
      </p:pic>
      <p:sp>
        <p:nvSpPr>
          <p:cNvPr id="363" name="Right Arrow 4"/>
          <p:cNvSpPr/>
          <p:nvPr/>
        </p:nvSpPr>
        <p:spPr>
          <a:xfrm>
            <a:off x="684360" y="3933720"/>
            <a:ext cx="977760" cy="28728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Right Arrow 5"/>
          <p:cNvSpPr/>
          <p:nvPr/>
        </p:nvSpPr>
        <p:spPr>
          <a:xfrm>
            <a:off x="684360" y="1916280"/>
            <a:ext cx="977760" cy="28872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Portable power planer – VET usage contr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1"/>
          <a:srcRect l="3613" t="7987" r="1620" b="9150"/>
          <a:stretch/>
        </p:blipFill>
        <p:spPr>
          <a:xfrm>
            <a:off x="324000" y="1628640"/>
            <a:ext cx="8153280" cy="5075280"/>
          </a:xfrm>
          <a:prstGeom prst="rect">
            <a:avLst/>
          </a:prstGeom>
          <a:ln w="0">
            <a:noFill/>
          </a:ln>
        </p:spPr>
      </p:pic>
      <p:sp>
        <p:nvSpPr>
          <p:cNvPr id="367" name="Right Arrow 4"/>
          <p:cNvSpPr/>
          <p:nvPr/>
        </p:nvSpPr>
        <p:spPr>
          <a:xfrm>
            <a:off x="2916360" y="5516640"/>
            <a:ext cx="977760" cy="36036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Right Arrow 5"/>
          <p:cNvSpPr/>
          <p:nvPr/>
        </p:nvSpPr>
        <p:spPr>
          <a:xfrm>
            <a:off x="1979640" y="3716280"/>
            <a:ext cx="977760" cy="36036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Construction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13629" t="12311" r="12434" b="44257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371" name="Notched Right Arrow 4"/>
          <p:cNvSpPr/>
          <p:nvPr/>
        </p:nvSpPr>
        <p:spPr>
          <a:xfrm>
            <a:off x="1619280" y="4149720"/>
            <a:ext cx="979560" cy="4842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SOURCES</a:t>
            </a:r>
            <a:br>
              <a:rPr sz="4400"/>
            </a:br>
            <a:br>
              <a:rPr sz="4400"/>
            </a:br>
            <a:r>
              <a:rPr b="0" lang="en-AU" sz="2000" spc="-1" strike="noStrike">
                <a:solidFill>
                  <a:srgbClr val="775f55"/>
                </a:solidFill>
                <a:latin typeface="Tw Cen MT"/>
              </a:rPr>
              <a:t>CD with answers available for every 10 copies ordered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rcRect l="0" t="12818" r="38027" b="40449"/>
          <a:stretch/>
        </p:blipFill>
        <p:spPr>
          <a:xfrm>
            <a:off x="324000" y="2205000"/>
            <a:ext cx="8064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4:08:21Z</dcterms:created>
  <dc:creator>mrodely1</dc:creator>
  <dc:description/>
  <dc:language>en-US</dc:language>
  <cp:lastModifiedBy>Authorised DET User</cp:lastModifiedBy>
  <dcterms:modified xsi:type="dcterms:W3CDTF">2010-11-04T22:27:58Z</dcterms:modified>
  <cp:revision>101</cp:revision>
  <dc:subject/>
  <dc:title>Slide 1</dc:title>
</cp:coreProperties>
</file>